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WHOOSH.WAV" ContentType="audio/x-wav"/>
  <Override PartName="/ppt/media/APPLAUSE.WAV" ContentType="audio/x-wav"/>
  <Override PartName="/ppt/media/RICOCHE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542-0416-4121-A32B-7D371BB2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16F-388B-4DEE-BC91-26CDC0A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9C6-607C-4F8F-B79F-9CCD013F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FE6-E6E9-4A41-8AF9-B940241A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D78-E3B3-4889-B5FD-45B00C24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D9F-7292-4667-B084-54DB3EAD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8FA-6ACC-4878-ACA9-D1015B85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D73-D576-4BA0-9EAD-6AE34F8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9DC-910A-4746-AEAF-835947C1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A9C-FBAA-49FF-9D53-3904B5A0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CA1-6F6B-4EF0-9AC7-F4B7C24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57C-896D-46BC-A8F5-750E2D9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7F1D-E4CA-40ED-B8F6-0FC0C5C2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20760" y="1717560"/>
                <a:ext cx="2955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093760" y="1143000"/>
                <a:ext cx="1598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48040" y="1143000"/>
                <a:ext cx="1622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 flipV="1">
            <a:off x="2590920" y="1980720"/>
            <a:ext cx="2438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76720" y="2666520"/>
            <a:ext cx="10666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33720" y="1218960"/>
            <a:ext cx="15238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19520" y="3733920"/>
                <a:ext cx="16412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43200" y="1219320"/>
                <a:ext cx="835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419720" y="121932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57400" y="1676520"/>
                <a:ext cx="308304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71800" y="1143000"/>
                <a:ext cx="1644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825720" y="1143000"/>
                <a:ext cx="1668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149560" y="2971800"/>
                <a:ext cx="1668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17800" y="2971800"/>
                <a:ext cx="1662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2362320" y="1905120"/>
            <a:ext cx="3047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362320" y="2590920"/>
            <a:ext cx="3047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886200" y="3124080"/>
            <a:ext cx="15238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33720" y="1218960"/>
            <a:ext cx="15238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724120" y="4094280"/>
                <a:ext cx="182880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43200" y="1219320"/>
                <a:ext cx="835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419720" y="121932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43200" y="3048120"/>
                <a:ext cx="8319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43400" y="3048120"/>
                <a:ext cx="8319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24080" y="4800600"/>
                <a:ext cx="13114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68480" y="1219320"/>
                <a:ext cx="43689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32160" y="4419720"/>
                <a:ext cx="4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4600" y="3200400"/>
                <a:ext cx="36259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76520" y="3657600"/>
                <a:ext cx="595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19520" y="4343400"/>
                <a:ext cx="2004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2590920" y="4038120"/>
            <a:ext cx="1752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95480" y="4495680"/>
            <a:ext cx="1828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800600" y="335232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2408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95480" y="297180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486400" y="4267080"/>
                <a:ext cx="38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 flipV="1">
            <a:off x="342900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5716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324480" y="36576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238880" y="327672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238880" y="3886200"/>
                <a:ext cx="38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73040" y="1219320"/>
                <a:ext cx="514980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6212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35268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5053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724280" y="2286000"/>
                <a:ext cx="38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098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14600" y="2286000"/>
                <a:ext cx="685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029200" y="2286000"/>
                <a:ext cx="685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 flipV="1">
            <a:off x="9144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290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3505320"/>
                <a:ext cx="34416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09880" y="1371600"/>
                <a:ext cx="3668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19720" y="1295280"/>
                <a:ext cx="366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0400" y="1600200"/>
                <a:ext cx="374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3505320"/>
                <a:ext cx="1219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0968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76720" y="3581280"/>
                <a:ext cx="374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3505320"/>
                <a:ext cx="1415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0060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62120" y="3048120"/>
                <a:ext cx="527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19320" y="3048120"/>
                <a:ext cx="920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57400" y="3048120"/>
                <a:ext cx="920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895480" y="3079800"/>
                <a:ext cx="838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57600" y="3048120"/>
                <a:ext cx="8380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7080" y="30877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05520" y="30481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867280" y="3048120"/>
                <a:ext cx="914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1143000" y="365724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57600" y="358092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80880" y="38862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541008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5105520"/>
                <a:ext cx="34419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762120" y="31237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3200040"/>
            <a:ext cx="60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38280" y="5029200"/>
                <a:ext cx="709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4080" y="5029200"/>
                <a:ext cx="1149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838080"/>
            <a:ext cx="8305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ookwork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g. 660 #1-34 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675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01:23:51Z</dcterms:created>
  <dc:creator>Don Helms</dc:creator>
  <dc:description/>
  <dc:language>en-US</dc:language>
  <cp:lastModifiedBy>damon.skelton</cp:lastModifiedBy>
  <dcterms:modified xsi:type="dcterms:W3CDTF">2003-04-17T18:21:46Z</dcterms:modified>
  <cp:revision>10</cp:revision>
  <dc:subject/>
  <dc:title>No Slide Title</dc:title>
</cp:coreProperties>
</file>